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F20-BE50-4AC4-B0FE-23FBD7A7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5B2-DBCB-4DD2-876E-593465BB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29D-37DF-4465-A7A4-85EB467B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671-51A9-47F1-ADDE-AB295E3A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975-E465-4CD1-978D-D1C62BF2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5AF-C2EA-4FE0-A867-522C523D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3A7-FDD8-40E6-B7D1-93DB7D2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4B7-278B-41D4-B45C-B666F5A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443-EF41-43B1-9244-E3AFB98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393-071C-4BED-B51A-A91932A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58E-9057-4869-9C61-BEE8DB4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380-1826-4CC1-9DB4-68EEAF7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4361-52B0-459E-952E-49F1B4BDC5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-77400"/>
            <a:ext cx="302400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ΠΙΜΟΡΦΩΤΙΚΟ ΣΕΜΙΝΑΡΙ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ΚΠΑΙΔΕΥΤΙΚΩΝ ΦΥΣΙΚΗΣ ΑΓΩΓ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/ΘΜΙΑΣ &amp; Β/ΘΜΙΑΣ ΕΚΠΑΙΔΕΥΣ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Ν. ΧΑΛΚΙΔΙΚΗ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Θέμ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«Μυοσκελετικές παραμορφώσει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τη σχολική ηλικία και πω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ντιμετωπίζονται από τους Ε.Φ.Α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ετάρτη 18 Νεμβρίου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:45-14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YMA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ΙΚΟ ΚΕΝΤΡΟ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N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ΟΥΔΑΝΙ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Διοργανωτέ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ικός Σύμβουλος Φυσικής Αγωγ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Δρ. Νικόλαος Οξύζογλο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ηλ.: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3710-23620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Κιν. Τηλ: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6974128041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xyzoglou@sch.g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Γραφείο Φυσικής Αγωγή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Νομού Χαλκιδικ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i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grafa@dide.chal.sch.gr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Τηλ.</a:t>
            </a:r>
            <a:r>
              <a:rPr b="1" i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:  23710-225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85320"/>
            <a:ext cx="381636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</a:rPr>
              <a:t>ΠΡΟΓΡΑΜΜ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 u="sng">
                <a:solidFill>
                  <a:srgbClr val="000000"/>
                </a:solidFill>
                <a:uFillTx/>
                <a:latin typeface="Times New Roman"/>
              </a:rPr>
              <a:t>Τετάρτη 18 Νοεμβρίου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.40 - 11.50  Προσέλευση – Εγγραφέ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1:50 - 12.00  Χαιρετισμο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2.00 - 12.30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πορεί ο Ε.Φ.Α. να διαπιστώσει τι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ϋοσκελετικές διαταραχές τω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μαθητών- τριών στο σχολεί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. Οξύζογλου Ι. Νικόλαο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Σχολικός Σύμβουλος Φυσικής Αγωγή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2.30 - 13.15  Μυοσκελετικά προβλήματα στ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ική ηλικία και η ανάγκη γι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ρθοσωματική Γυμναστική σ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χολεί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Δρ. Κέλλης Ελευθέριος, Αν. Καθηγητή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του Α.Π.Θ.–ΤΕΦΑΑ Σερρών.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3.15 - 13.25  Διάλειμμα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3.25 - 14.00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Ασφάλεια των Αθλητικώ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εγκαταστάσεων στους σχολικο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χώρου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. Μπεμπέτσος Γεώργιο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.Φ.Α. Β/θμιας εκπ/ση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14.00 - 14.15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Συζήτηση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9280" y="4905360"/>
            <a:ext cx="3348000" cy="195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4869000"/>
            <a:ext cx="1728720" cy="19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43640" y="4941720"/>
            <a:ext cx="1584360" cy="191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21T10:05:13Z</dcterms:modified>
  <cp:revision>11</cp:revision>
  <dc:subject/>
  <dc:title>PowerPoint Presentation</dc:title>
</cp:coreProperties>
</file>